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AD85-1E88-4FEE-B3D2-5974CCD62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BBDF-9A09-4838-AB0D-9EF9E15F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A64A-06AC-4076-AD29-3EEFA86F9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2FE6-00EB-43B1-9E21-00B7A8221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848B-860A-4BFF-A9EE-101E58FAF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F8AC-A4A1-4A6A-99E8-3678DADE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414C-7CF2-4E53-8B89-7DB56553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286D-FCA4-4131-A13D-EA1D565F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18C5-50EF-4BFE-8E7D-B222B325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6CDA-CA65-4350-8C81-E1794BBB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74AD-DC5E-448E-8578-58FF0BAC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9F6D-688B-4FBC-BFB3-60403074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16F2-3A65-4EEB-AC15-851A3D92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B861-830D-4F52-A486-19FD4545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774B-7483-4B26-A73E-A1ABB7E3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0068-9F62-4501-B4C5-52BF9E1EF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FEB2-1139-4AA7-9350-811F9811A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3A99-B198-4E97-A8B4-55AD42DD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2DFB-CA73-438F-99F9-062E210B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131E-78EA-4F0E-B3AB-B9937CCE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4179-42D9-4266-907A-637827D7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A36B-310F-4D5A-AFC6-3D8DBD0B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925A-0694-414D-8CD1-352BB645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A91C-A437-45FE-B1BE-64B44B6D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6255-1698-48E5-929B-C0F87249A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D24B-27A5-45AF-B509-5A75A9B0719B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Menstrual Cyc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menstrual cyc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rocess in which females ripen or release one mature eg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verage menstrual cycle will repeat itself about every 28 days, but normal menstrual cycles can range from 21 to 40 day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ges in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ituitary Hormones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ys 1-14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ring the first half of the cycle (Days 1-14) the pituitary produce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SH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  stimulates egg production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hormone also triggers the release of estrogen from the ovari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ges in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ituitary Hormone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Days 14-28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 the 14th day the pituitary begins releasing LH causing ov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H also directs the production of  progesterone which maintains the growth of the endometriu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f the egg is not fertilized upon arrival in the uterus progesterone levels drop causing estrogen levels to drop leading to  menstru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ges in the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Ovarie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5867280" y="4114800"/>
            <a:ext cx="36576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ge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vum begins to develo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5105520" y="1905120"/>
            <a:ext cx="46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ge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gg continues to ripen; follicle growt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0" y="1981080"/>
            <a:ext cx="39625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ge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vulation fully mature egg bursts out of  follic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0" y="5257800"/>
            <a:ext cx="7696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ge 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gg enters fallopian tube follicle remains and forms the corpus luteu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ges in the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Ovarie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age 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An egg is beginning to mature within a cluster of cells called a follicl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age 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Rapid follicle and egg grow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age 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Ovulation occurs; fully mature egg bursts out of the follicle (fertile)  empty follicle transforms into the corpus lute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age 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Egg travels through fallopian tube (7 days) if not fertilized upon arrival in uterus the corpus luteum shrinks triggering menstruation and  ripening of new eg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ges in the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Uteru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Picture 9" descr="H:\pictures\st1menstruation.JPG"/>
          <p:cNvPicPr/>
          <p:nvPr/>
        </p:nvPicPr>
        <p:blipFill>
          <a:blip r:embed="rId1"/>
          <a:stretch/>
        </p:blipFill>
        <p:spPr>
          <a:xfrm>
            <a:off x="1523880" y="1143000"/>
            <a:ext cx="2268720" cy="2895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H:\pictures\st2menstruation.JPG"/>
          <p:cNvPicPr/>
          <p:nvPr/>
        </p:nvPicPr>
        <p:blipFill>
          <a:blip r:embed="rId2"/>
          <a:stretch/>
        </p:blipFill>
        <p:spPr>
          <a:xfrm>
            <a:off x="4038480" y="1143000"/>
            <a:ext cx="2266920" cy="3124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H:\pictures\st3menstruation.JPG"/>
          <p:cNvPicPr/>
          <p:nvPr/>
        </p:nvPicPr>
        <p:blipFill>
          <a:blip r:embed="rId3"/>
          <a:stretch/>
        </p:blipFill>
        <p:spPr>
          <a:xfrm>
            <a:off x="6705720" y="1143000"/>
            <a:ext cx="2155680" cy="2971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H:\pictures\st4menstruation.JPG"/>
          <p:cNvPicPr/>
          <p:nvPr/>
        </p:nvPicPr>
        <p:blipFill>
          <a:blip r:embed="rId4"/>
          <a:stretch/>
        </p:blipFill>
        <p:spPr>
          <a:xfrm>
            <a:off x="1828800" y="3657600"/>
            <a:ext cx="2597040" cy="3200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H:\pictures\st5menstruation.JPG"/>
          <p:cNvPicPr/>
          <p:nvPr/>
        </p:nvPicPr>
        <p:blipFill>
          <a:blip r:embed="rId5"/>
          <a:stretch/>
        </p:blipFill>
        <p:spPr>
          <a:xfrm>
            <a:off x="4495680" y="3733920"/>
            <a:ext cx="2484720" cy="28954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4"/>
          <p:cNvSpPr/>
          <p:nvPr/>
        </p:nvSpPr>
        <p:spPr>
          <a:xfrm>
            <a:off x="533520" y="289548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ge 1- Day 1-5 menstr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3200400" y="25146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ge 2 Day 5- 13 pre-ovulatory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6095880" y="2895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ge 3 Day 14 Ov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2971800" y="518148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ge 4 Day 15-28 post-ovulatory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ges in the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Uteru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age 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Menstruation- Endometrium breaks down and blood, mucus, tissue, and the egg are shed through the vagi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age 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Menstrual flow stops &amp; endometrium begins to thick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age 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Endometrium continues to thick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age 4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 endometrium is at it’s thickest poi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2T13:39:37Z</dcterms:created>
  <dc:creator>Computer Department</dc:creator>
  <dc:description/>
  <dc:language>en-US</dc:language>
  <cp:lastModifiedBy>Daly Dominguez</cp:lastModifiedBy>
  <cp:lastPrinted>2001-03-29T13:47:20Z</cp:lastPrinted>
  <dcterms:modified xsi:type="dcterms:W3CDTF">2016-05-31T19:29:27Z</dcterms:modified>
  <cp:revision>32</cp:revision>
  <dc:subject/>
  <dc:title>The Menstrual Cycle</dc:title>
</cp:coreProperties>
</file>